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7AC8-A1A2-44AB-887A-F1DD61FD2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med cell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F0DE-4F3A-436D-A4D8-84C42A54E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DOG  BIT  THE  CAT  - deletion of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DOB  ITT  HEC 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don after the deletion will be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mutations are normally less harmful because they only disrupt one co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1388-92D9-41D7-B6D8-FA0503740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C75-5B60-4188-AB0C-600E3EB8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E79-2A03-4231-B2AD-89EEAF3D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0A8-32E4-4C4A-A3E4-A36759FA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F04-D9A4-4C74-B86D-9D475E10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9C2D-4097-4E9C-81AC-4A9D5EFD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8157-76A7-465B-A946-91E2BB7E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A8FE-5936-4D8B-B811-6C1FEF2B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90D3-3849-4B91-9164-CE50712E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D528-1FA7-4695-9084-815B1E45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14DE-F207-4024-8469-DCAFA6E5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DD69-E735-4974-A52B-B996D48A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B1B5-F982-43E1-AC79-3BCBF0FC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F220-E0A8-4CEC-BDA3-4D78CC1A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391E-A2DA-47DC-B8A5-69E7CD1F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D3B9-D5E9-453A-BFCD-63BC4296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F82D-159B-4089-93F0-7E296C6F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8590-7124-41CC-9DB5-122F7744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D892E-52B0-411B-AF0B-76C29916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D7B8E-42E0-4508-819E-84160051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B7E00-A8DB-46F4-ACF8-6902855F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ADFFB-A715-4BF9-80B9-DA6D43D5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AB5C0-ECB5-4924-9110-888F607A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875-D984-40F9-9385-AA07D757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D69D2-7FA1-4E5B-8981-2C8066EB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FA3DF-E48B-42F6-8D04-2248C4B6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510AE-9FC1-49D2-A3F7-669390E7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CB4A7-9D84-4EAA-B684-89E42FDC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F38DC-EAB4-41D3-BB57-47283BDA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8DDEB-C318-4597-8322-4CD17654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88120-F361-4606-8F43-96F3958C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1605A-AFA5-42F8-BD88-A741FCA0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759D-6200-4B11-9428-363E47FC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B1F3-AA27-4A78-A121-9D7E04AA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3C8-987D-4197-869B-FF6FF50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612C-5BC9-4043-B897-3DD2286C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40E2-74CD-41CC-A27A-BA682630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37BB7-63AB-4B9B-9D2D-D9584D8F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667F-6541-483A-9B1D-74CB8E3B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409D2-903D-4FB8-ABF0-A91D08CB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FB3FA-9D52-461C-AF05-2BC089E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57B6-BEFE-4178-B06A-4E9E9711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11007-422A-497D-A7F2-E64A2E93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E4A9-20A2-4808-B533-97897945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0FF-FFA0-4DA8-B344-C1146F74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505-F699-4070-9749-6FB1BC7A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0B1-F46D-41FC-BA14-3BE8DBB6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9F8-960C-4A80-B956-33C988A4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464-1A44-48C8-8127-37049527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AE75-3344-4516-A136-954828F7A03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76AB-CCAB-4C14-BD36-0A8D4A2A743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2C12-7EEE-4DDD-BB42-B15CDEF37EE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E742-3B98-4846-BADE-696197D142A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johnkyrk.com/meiosis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hnkyrk.com/meiosis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eiosi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ells formed by mitosis are identical to each other and to the parent ce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meiosis however, crossing over provides a way to rearrange allele combin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ariabil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ani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ene Muta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52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the DNA of all the cells in our body were lined up end to end, it would stretch nearly 62 billion miles. (Distance between Earth and Jupite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’s bound to be some mistak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change in the DNA sequence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ut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mutation may have positive effects, harmful effects, or no observable effects whatsoe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uses of Gene Muta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y mutations are caused by factors in the environment. Any agent that can cause a change in DNA is called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utage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utagens include radiation, chemicals, and high temperature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n cause uncontrolled cell division-canc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ene Mutations (Sec 11.3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Reproductive Cell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Body Cell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erm or Egg cel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f this cell takes part in fertilization, all the cells will have the mutati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1780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n reproductive cel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ie. Skin, muscle, bone, cancer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en cell divides, the new cell will have the same mut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n light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Gene muta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int mu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ange in a single base pair in DN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  DOG   BIT   THE   CAR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  DOG   BIT   THE   CAT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single change can change the whole structure of a protein. That may or may not effect the protein func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5029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37160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ameshif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en a single base is added to or deleted from DN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43243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ameshift (cont.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 DOG  BIT  THE  CAT  - deletion of 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 DOB  ITT  HEC  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ery codon after the deletion will be differ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int mutations are normally less harmful because they only disrupt one cod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hromosomal Muta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752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anges  may occur in chromosomes as well as in ge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metimes parts of chromosomes are broken off and lost during mitosis or mei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Chromosomal muta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le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hen part of a chromosome is left ou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ser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hen part of a chromatid breaks off and attaches to its sister chromatid. The result is a duplication of genes on the same chromosom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ver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hen part of a chromosome breaks off and reattaches backward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ransloca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hen part of a chromosome breaks off and is added to a different chromosome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le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cap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2249640"/>
            <a:ext cx="25909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n (Diploi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 (haploi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t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3103560" y="1828800"/>
            <a:ext cx="526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ser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9357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ver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3728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ansloc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371600" y="148608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Meiosi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tosis- the cells that divide have the same number of chromosomes (2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ch offspring formed would have double the number of chromosomes (46,92, 138…etc in human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rly, there must be another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iosis                        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animation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ccurs in specialized body cells that produce gamet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ales gametes=sper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emale gametes=egg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sts of 2 separate divi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eiosis I (starts with one diploid cell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eiosis II (ends with 4 haploid cell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iosis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lication of chromosom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hase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NA coils up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mologous chromosomes line up to form a tetrad (two chromosomes paired tightly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rossing ov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hromosomes break and exchange informa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Results in new combinations of alleles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iosis I </a:t>
            </a: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(cont.)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taphase I (meta means middl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pindle fibers attach to centromere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etrads line up along equator (via spindle fiber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885240" indent="-209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*lined up side by side (unlike mitosis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aphase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mologous chromosomes separate and move to opposite ends of cel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885240" indent="-209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ister chromatids do not split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885240" indent="-209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Each new cell only receives one chromosome from each pair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iosis I </a:t>
            </a: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(cont.)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lophase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pindle is broken dow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romosomes uncoi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ytoplasm divides to form 2 new cell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ch cell has half the genetic information as original cel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asically mitosis up to this poi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nother cell division is still needed. Why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eiosis II</a:t>
            </a:r>
            <a:br>
              <a:rPr sz="3600"/>
            </a:b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(Division of the products of meiosis I)</a:t>
            </a:r>
            <a:br>
              <a:rPr sz="36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hase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entrioles go to opp. Sides of cel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pindle fibers attach to chromosom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taphase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romosomes line up at equat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aphase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entromere of each chromosome spli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ister chromatids separate to opp. poles of cel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iosis II </a:t>
            </a: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(cont.)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lophase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uclei refor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pindles break dow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ell divid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 haploid cel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ametes (sperm or egg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nim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6:51:03Z</dcterms:created>
  <dc:creator>Registered User</dc:creator>
  <dc:description/>
  <dc:language>en-US</dc:language>
  <cp:lastModifiedBy>Registered User</cp:lastModifiedBy>
  <dcterms:modified xsi:type="dcterms:W3CDTF">2009-02-04T12:37:12Z</dcterms:modified>
  <cp:revision>11</cp:revision>
  <dc:subject/>
  <dc:title>Meiosis</dc:title>
</cp:coreProperties>
</file>